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a:t>
            </a:r>
            <a:fld id="{6D3C1E31-84E3-4A63-8CAA-8D4DF28852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a:t>
            </a:r>
            <a:fld id="{BE46232C-B79B-4DF7-B861-5168A7C77D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0"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1"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892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Times New Roman"/>
              <a:ea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sample question: “How do you account for the appeal of McCarthyism in the United States in the era following the Second World War?” How would you define the date parameters for this question? (Note to teacher: Take a few minutes to field suggestions from students, then continue.) This question is sufficiently vague about dates. The beginning date is easier to pin down, since World War II ended in 1945, but few restrictions exist on an end date. Should it be 1954, when McCarthy was censured by the Senate? Or 1957, when he died? Or 1960, when the “Eisenhower era” ended? Although most students would probably choose 1960 as an end date, you could also extend your response well into the 1960s by mentioning the persistence of the Cold War fear of “communist sub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a feel for the target era by listing the presidents of the period along with the major facts for each administration. Put the question in chronological context of the events and culture of the period. What are the anchor points in the parameter years? For example, precise anchor points for a question about Reconstruction could be 1865 (the end of the Civil War) and 1884 (the election of the first Democratic president since Buchanan). Date sequences are importa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construct a database, which is a series of lists based on the question. You will use the database to organize all the outside information you know that may be relevant to the question. Use the back of your test booklet as a scratch sheet and write down headings like “Social,” “Economic,” “Political,” “Foreign Affairs,” “Events,” “Court Cases,” or others you think appropriate. Jot down as many thoughts and facts about the question as you can. On a DBQ, always create a database </a:t>
            </a:r>
            <a:r>
              <a:rPr b="0" lang="en-US" sz="1200" spc="-1" strike="noStrike" u="sng">
                <a:solidFill>
                  <a:srgbClr val="000000"/>
                </a:solidFill>
                <a:uFillTx/>
                <a:latin typeface="Times New Roman"/>
              </a:rPr>
              <a:t>before</a:t>
            </a:r>
            <a:r>
              <a:rPr b="0" lang="en-US" sz="1200" spc="-1" strike="noStrike">
                <a:solidFill>
                  <a:srgbClr val="000000"/>
                </a:solidFill>
                <a:latin typeface="Times New Roman"/>
              </a:rPr>
              <a:t> you read the documents. This will assure that you have substantial outside information—which is the key to a high score. Without outside information, an essay can’t receive any more than four out of a possible nin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read the documents, adding additional outside information to your database as it occurs to you. If your database is constructed opposite your document analysis, this will help when you compare your database with the documents. You should easily be able to distinguish pieces of outside information that are not contained in the documents. You will want to balance outside information with the information and hints in the documents (which, by the way, are always presented in chronological ord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 document is not a fact, but a piece of evidence to interpret. The point of view of the sources is central to its credibility. Even when people agree on the facts, they may interpret these facts differently. Does the document support or refute your thesis? If a document seems to disprove your view, you will do well to answer this challenge in your ess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analyze the documents is using the SOAPS checklist, as shown in this slid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analyze the documents is by using the APPARTS checklist. (Note to teacher: APPARTS is a device developed for the vertical teams program for social scienc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paragraph of your essay, you need to provide insight (that is, analysis, perspective, and point of view) into the complexity of the question. This is particularly important if you want to get the highest essay scores (7, 8, and 9). You should make a strong first impression. Try to impress the reader with your analysis of the question. Although you want to refute strong points that someone trying to argue against your thesis might make, you should concede good points that the other side might make. On balance, your argument should reflect a preponderance of the evidence presented in the documents. Above all, the reader should know your position on the question unequivocally after the first para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opening paragraph should contain the following:</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tatement of the question. This should reflect the question as you understand it. Do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imply recopy the question; AP readers generally view this as “taking up space.”</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ef definition of the terms and parameters as you understand th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ghtful commentary on the question and its complexity</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hesi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sis statement is a positive assertion regarding an issue about which reasonable people may hold different opinions. You must have a thesis before you can prove it. Your first paragraph should reflect that you have a thesis and that you understand the complexity of the question. Remember, there are no simple answers to a DBQ—if an easy response existed, the question wouldn’t have been asked in the first place. The level of sophistication of your analysis and the degree to which you successfully prove your thesis are crucial in receiving a high sc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weighed the evidence, you are ready to write a clear thesis that answers the question in one sentence. Use the notes and the database you have constructed to organize your arguments logically. Although the documents in a DBQ are arranged chronologically, avoid the trap of discussing them in order: remember, you don’t want to merely describe the documents, but instead to interpret them as evid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your essay is written to convince. Be thorough and assume nothing. As with a geometry proof, don’t skip steps. Provide abundant and appropriate factual support for your thesis, keeping your focus on the question. When using examples, relevance and accuracy are of paramount importance. Don’t lapse into a narrative of everything you know about the topic. One or two specific, focused, and relevant examples are better than a laundry list of names or cases without comment. Avoid ambiguity and vagueness, but if you don’t know an exact date, pin it down as closely as you can (e.g., the early 1880s, the late 17th century, during the Kennedy administration). Chronological sequence is more important than a precise date, but be as specific as you can. Whatever facts you present should be used to prove your the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ditorialize. Stick to the facts. Think of the essay like a sports broadcast: you need to provide the color analysis, not the play-by-play. Instead of saying, “Johnson strikes out,” you need to say, “Johnson has proven again and again that he can’t handle an inside fastball.” When you make a point, be sure that it links to your thesis and supports it. When you finish a paragraph, look back and make sure it connects with your thesis. In addition, you need to provide a substantial amount of outside information and cite a majority of the documents in your ess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eachers feel that you should write the conclusion immediately after you finish writing the first paragraph. This can help you to focus on where the essay is going. A concluding statement should tie your data together and provide mea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the opening and closing paragraphs as mini-essays that lay out your entire case. However, the opening paragraph far exceeds the closing one in import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the third bullet: In an experiment where the same essay was written (actually copied) by three different students with excellent, fair, and poor handwriting, the grades reflected the quality of the penmanship. This may not be fair, but it’s the reality of the situation. All AP readers have another person “reading behind” them. Since not all essays receive two readings, it’s highly unlikely that the second reader will pick a paper with poor handwriting. Thus, try to write as clearly and as neatly as you c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BQ is an essay question that asks you to take a position on an issue that has several possible answers. There is no “right” or “correct” response. The question is designed to give you the opportunity to craft and defend a thesis based upon your knowledge and your interpretation of the evidence presented to you in the primary sources and other documents. Imagine yourself as the historian who first heard the Kennedy tapes, found a long-lost letter from Frederick Douglass, interviewed Lyndon Johnson in 1970, or ran an original computer data analysis of poverty in 1900. You have these pieces of evidence. What do they mean and how do they fit with what you already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cuments presented in a DBQ may include any of the items list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xt series of slides will lay out a nine-step method for answering a DBQ.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read the question carefully and try to determine the essence of the question. For example, what type of question is it: yes/no, “to what extent,” or compare/contrast? What judgment does it ask you to make? Does it have more than one part, and therefore more than one question that needs to be answered? Does it provide bullets to offer you some direction? Does it offer a choice of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questions require you to analyze relationships (for example, the political implications of an economic issue), common themes in different time periods (for example, the concept of “national interest” in foreign policy), or degree (for example, “To what extent and in what ways do the views about John Brown expressed in the documents illustrate changing North-South relations between 1859 and 1863?”). Questions of the last type that ask “to what extent” are designed to force students to give an opinion. Try to think of these “degree” questions as asking “On a scale from 1 to 10…”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DBQ (from the 2006 AP exam) has several parts that need to be addressed. When presented with a question like this, identify and underline the various parts of the question, then decide how you will answer it. How many parts does this question have? (Note to teacher: Field responses from the class, then click to advance the animations, revealing the answers.) Ask yourself, “What must I cover in order to write a successful essay?” Be sure you fully understand what the question is asking you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you respond to the question asked, rather than to one you wish had been asked. Also, don’t make up your own version of the question. These are common mistakes often committed by students who actually know something about the topic addressed in the question. The absolute rule here is to answer the question ask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dentify any key terms that need to be defined. Seize control of the prompt by imposing your definitions of these terms. What would the definable terms be for this question? (Note to teacher: Field responses from the class, then click to advance the animations, revealing the answers.)</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deals of American womanhoo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publican motherhood”</a:t>
            </a:r>
            <a:endParaRPr b="0" lang="en-US" sz="1200" spc="-1" strike="noStrike">
              <a:solidFill>
                <a:srgbClr val="000000"/>
              </a:solidFill>
              <a:latin typeface="Times New Roman"/>
            </a:endParaRPr>
          </a:p>
          <a:p>
            <a:pPr lvl="1" marL="3430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lt of domest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ample question: “To what extent had the colonists developed a sense of their own identity and unity as Americans by the eve of the Revolution?” This question requires you to explain both “identity” and “unity.” Many students who answered this question discussed these terms together, but they should have made a list of examples for both term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examine the date parameters. Are they specifically stated in the question? What are they in this question? (Note to teacher: Field responses from the class, then click to advance the animations, revealing the answer.) If the date parameters are not expressly stated, as they were in this question, then you have some flexibility in determining your own parameters. For example, with the unity/identity question mentioned before, you could start after the French and Indian War, or with the founding of the colonies. Seize control of the prompt by precisely defining these date parame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9D6AA-51D0-4664-A653-D0446A59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174E-0FEF-41DA-B250-B64CF6F5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EF42E-D572-422C-A152-8C8BB03B3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EC0C-177D-498E-A514-DA741C58B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DDBD6-B662-40AB-89B0-CED937B6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0F712-EA06-4E70-80BA-AEFA5CCBD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067E-D112-4F60-A4A9-4BCE6634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ED3DF-C47F-4B8F-A098-BB82A763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88053-D2A4-4F47-82EA-6DD43627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5759-9825-4791-B253-1BE1F282A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9F36-829D-4E54-9BF4-858723F7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6A7D-98BD-4E01-AE39-330421B75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3080"/>
            <a:ext cx="1905120" cy="152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C875-08BB-4D0C-B8B1-BF861DB34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676520" y="609480"/>
            <a:ext cx="5734080" cy="3969000"/>
          </a:xfrm>
          <a:prstGeom prst="rect">
            <a:avLst/>
          </a:prstGeom>
          <a:ln w="0">
            <a:noFill/>
          </a:ln>
        </p:spPr>
      </p:pic>
      <p:sp>
        <p:nvSpPr>
          <p:cNvPr id="49" name=""/>
          <p:cNvSpPr/>
          <p:nvPr/>
        </p:nvSpPr>
        <p:spPr>
          <a:xfrm>
            <a:off x="1219320" y="4654440"/>
            <a:ext cx="6705360" cy="1574280"/>
          </a:xfrm>
          <a:prstGeom prst="rect">
            <a:avLst/>
          </a:prstGeom>
          <a:solidFill>
            <a:srgbClr val="bc5671"/>
          </a:solidFill>
          <a:ln w="0">
            <a:noFill/>
          </a:ln>
        </p:spPr>
        <p:style>
          <a:lnRef idx="0"/>
          <a:fillRef idx="0"/>
          <a:effectRef idx="0"/>
          <a:fontRef idx="minor"/>
        </p:style>
        <p:txBody>
          <a:bodyPr lIns="90000" rIns="90000" tIns="46800" bIns="4680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RITING A DBQ:</a:t>
            </a:r>
            <a:endParaRPr b="0" lang="en-US" sz="4400" spc="-1" strike="noStrike">
              <a:solidFill>
                <a:srgbClr val="000000"/>
              </a:solidFill>
              <a:latin typeface="Times New Roman"/>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a:t>
            </a:r>
            <a:r>
              <a:rPr b="1" lang="en-US" sz="4400" spc="-1" strike="noStrike" baseline="30000">
                <a:solidFill>
                  <a:srgbClr val="000000"/>
                </a:solidFill>
                <a:latin typeface="Times New Roman"/>
                <a:ea typeface="Times New Roman"/>
              </a:rPr>
              <a:t>*</a:t>
            </a:r>
            <a:r>
              <a:rPr b="1" lang="en-US" sz="4400" spc="-1" strike="noStrike">
                <a:solidFill>
                  <a:srgbClr val="000000"/>
                </a:solidFill>
                <a:latin typeface="Times New Roman"/>
                <a:ea typeface="Times New Roman"/>
              </a:rPr>
              <a:t> U.S. History</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3F7BAF5A-A040-4EFB-A03D-459B228E3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e Parameters (continue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question state specific dates? What are th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specific date parameters are given, set ones of your ow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presidents of the peri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he question in chronological context of the events and culture of the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3BAAB-BBA7-4DF8-899A-3FD4B9667C2D}" type="slidenum">
              <a:t>10</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 a Databas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database to organize outside information you know that may be relevant to the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down headings on the back of your test bookl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the database </a:t>
            </a:r>
            <a:r>
              <a:rPr b="0" lang="en-US" sz="3200" spc="-1" strike="noStrike" u="sng">
                <a:solidFill>
                  <a:srgbClr val="000000"/>
                </a:solidFill>
                <a:uFillTx/>
                <a:latin typeface="Times New Roman"/>
              </a:rPr>
              <a:t>before</a:t>
            </a:r>
            <a:r>
              <a:rPr b="0" lang="en-US" sz="3200" spc="-1" strike="noStrike">
                <a:solidFill>
                  <a:srgbClr val="000000"/>
                </a:solidFill>
                <a:latin typeface="Times New Roman"/>
              </a:rPr>
              <a:t> you read the docu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read the documents and add any other info to your database that occurs to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1F0E3E-98C0-4856-B6D0-4DD58DD358D9}" type="slidenum">
              <a:t>11</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 is not a fact, but a piece of evidence to interpr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of view is cruci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document support or refute your thesi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451A7A-FA53-449E-AFE8-8FD7229259B4}" type="slidenum">
              <a:t>12</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762120" y="1981080"/>
            <a:ext cx="457200" cy="38862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09120"/>
            <a:ext cx="7772400" cy="129564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SOAPS</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904760"/>
            <a:ext cx="2590920" cy="685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600" spc="-1" strike="noStrike">
                <a:solidFill>
                  <a:srgbClr val="000000"/>
                </a:solidFill>
                <a:latin typeface="Times New Roman"/>
              </a:rPr>
              <a:t>	</a:t>
            </a:r>
            <a:r>
              <a:rPr b="0" lang="en-US" sz="3200" spc="-1" strike="noStrike">
                <a:solidFill>
                  <a:srgbClr val="000000"/>
                </a:solidFill>
                <a:latin typeface="Times New Roman"/>
              </a:rPr>
              <a:t>subject</a:t>
            </a:r>
            <a:endParaRPr b="0" lang="en-US" sz="3200" spc="-1" strike="noStrike">
              <a:solidFill>
                <a:srgbClr val="000000"/>
              </a:solidFill>
              <a:latin typeface="Times New Roman"/>
            </a:endParaRPr>
          </a:p>
        </p:txBody>
      </p:sp>
      <p:sp>
        <p:nvSpPr>
          <p:cNvPr id="81" name=""/>
          <p:cNvSpPr/>
          <p:nvPr/>
        </p:nvSpPr>
        <p:spPr>
          <a:xfrm>
            <a:off x="3048120" y="198108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4080" y="198108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being discussed?</a:t>
            </a:r>
            <a:endParaRPr b="0" lang="en-US" sz="3200" spc="-1" strike="noStrike">
              <a:solidFill>
                <a:srgbClr val="000000"/>
              </a:solidFill>
              <a:latin typeface="Times New Roman"/>
            </a:endParaRPr>
          </a:p>
        </p:txBody>
      </p:sp>
      <p:sp>
        <p:nvSpPr>
          <p:cNvPr id="83" name=""/>
          <p:cNvSpPr/>
          <p:nvPr/>
        </p:nvSpPr>
        <p:spPr>
          <a:xfrm>
            <a:off x="457200" y="2666880"/>
            <a:ext cx="2590920" cy="58140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  </a:t>
            </a:r>
            <a:r>
              <a:rPr b="0" lang="en-US" sz="3200" spc="-1" strike="noStrike">
                <a:solidFill>
                  <a:srgbClr val="000000"/>
                </a:solidFill>
                <a:latin typeface="Times New Roman"/>
              </a:rPr>
              <a:t>occasion</a:t>
            </a:r>
            <a:endParaRPr b="0" lang="en-US" sz="3200" spc="-1" strike="noStrike">
              <a:solidFill>
                <a:srgbClr val="000000"/>
              </a:solidFill>
              <a:latin typeface="Times New Roman"/>
            </a:endParaRPr>
          </a:p>
        </p:txBody>
      </p:sp>
      <p:sp>
        <p:nvSpPr>
          <p:cNvPr id="84" name=""/>
          <p:cNvSpPr/>
          <p:nvPr/>
        </p:nvSpPr>
        <p:spPr>
          <a:xfrm>
            <a:off x="3124080" y="26668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context of events?</a:t>
            </a:r>
            <a:endParaRPr b="0" lang="en-US" sz="3200" spc="-1" strike="noStrike">
              <a:solidFill>
                <a:srgbClr val="000000"/>
              </a:solidFill>
              <a:latin typeface="Times New Roman"/>
            </a:endParaRPr>
          </a:p>
        </p:txBody>
      </p:sp>
      <p:sp>
        <p:nvSpPr>
          <p:cNvPr id="85" name=""/>
          <p:cNvSpPr/>
          <p:nvPr/>
        </p:nvSpPr>
        <p:spPr>
          <a:xfrm>
            <a:off x="457200" y="3352680"/>
            <a:ext cx="259092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audience</a:t>
            </a:r>
            <a:endParaRPr b="0" lang="en-US" sz="3200" spc="-1" strike="noStrike">
              <a:solidFill>
                <a:srgbClr val="000000"/>
              </a:solidFill>
              <a:latin typeface="Times New Roman"/>
            </a:endParaRPr>
          </a:p>
        </p:txBody>
      </p:sp>
      <p:sp>
        <p:nvSpPr>
          <p:cNvPr id="86" name=""/>
          <p:cNvSpPr/>
          <p:nvPr/>
        </p:nvSpPr>
        <p:spPr>
          <a:xfrm>
            <a:off x="3200400" y="3352680"/>
            <a:ext cx="5334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whom is the message directed?</a:t>
            </a:r>
            <a:endParaRPr b="0" lang="en-US" sz="3200" spc="-1" strike="noStrike">
              <a:solidFill>
                <a:srgbClr val="000000"/>
              </a:solidFill>
              <a:latin typeface="Times New Roman"/>
            </a:endParaRPr>
          </a:p>
        </p:txBody>
      </p:sp>
      <p:sp>
        <p:nvSpPr>
          <p:cNvPr id="87" name=""/>
          <p:cNvSpPr/>
          <p:nvPr/>
        </p:nvSpPr>
        <p:spPr>
          <a:xfrm>
            <a:off x="457200" y="4343400"/>
            <a:ext cx="251460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
            </a:r>
            <a:r>
              <a:rPr b="0" lang="en-US" sz="3200" spc="-1" strike="noStrike">
                <a:solidFill>
                  <a:srgbClr val="000000"/>
                </a:solidFill>
                <a:latin typeface="Times New Roman"/>
              </a:rPr>
              <a:t>	</a:t>
            </a:r>
            <a:r>
              <a:rPr b="0" lang="en-US" sz="3200" spc="-1" strike="noStrike">
                <a:solidFill>
                  <a:srgbClr val="000000"/>
                </a:solidFill>
                <a:latin typeface="Times New Roman"/>
              </a:rPr>
              <a:t>purpose</a:t>
            </a:r>
            <a:endParaRPr b="0" lang="en-US" sz="3200" spc="-1" strike="noStrike">
              <a:solidFill>
                <a:srgbClr val="000000"/>
              </a:solidFill>
              <a:latin typeface="Times New Roman"/>
            </a:endParaRPr>
          </a:p>
        </p:txBody>
      </p:sp>
      <p:sp>
        <p:nvSpPr>
          <p:cNvPr id="88" name=""/>
          <p:cNvSpPr/>
          <p:nvPr/>
        </p:nvSpPr>
        <p:spPr>
          <a:xfrm>
            <a:off x="3200400" y="4343400"/>
            <a:ext cx="58672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ecommended action to the reader?</a:t>
            </a:r>
            <a:endParaRPr b="0" lang="en-US" sz="3200" spc="-1" strike="noStrike">
              <a:solidFill>
                <a:srgbClr val="000000"/>
              </a:solidFill>
              <a:latin typeface="Times New Roman"/>
            </a:endParaRPr>
          </a:p>
        </p:txBody>
      </p:sp>
      <p:sp>
        <p:nvSpPr>
          <p:cNvPr id="89" name=""/>
          <p:cNvSpPr/>
          <p:nvPr/>
        </p:nvSpPr>
        <p:spPr>
          <a:xfrm>
            <a:off x="457200" y="5364000"/>
            <a:ext cx="2362320" cy="10688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200" spc="-1" strike="noStrike">
                <a:solidFill>
                  <a:srgbClr val="000000"/>
                </a:solidFill>
                <a:latin typeface="Times New Roman"/>
              </a:rPr>
              <a:t>	</a:t>
            </a:r>
            <a:r>
              <a:rPr b="0" lang="en-US" sz="3200" spc="-1" strike="noStrike">
                <a:solidFill>
                  <a:srgbClr val="000000"/>
                </a:solidFill>
                <a:latin typeface="Times New Roman"/>
              </a:rPr>
              <a:t>speaker</a:t>
            </a:r>
            <a:endParaRPr b="0" lang="en-US" sz="3200" spc="-1" strike="noStrike">
              <a:solidFill>
                <a:srgbClr val="000000"/>
              </a:solidFill>
              <a:latin typeface="Times New Roman"/>
            </a:endParaRPr>
          </a:p>
        </p:txBody>
      </p:sp>
      <p:sp>
        <p:nvSpPr>
          <p:cNvPr id="90" name=""/>
          <p:cNvSpPr/>
          <p:nvPr/>
        </p:nvSpPr>
        <p:spPr>
          <a:xfrm>
            <a:off x="3200400" y="536400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who is the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3923E-FA3C-4F9C-8BAE-339FBFB0DEDA}" type="slidenum">
              <a:t>13</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8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8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84"/>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8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8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8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8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2193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APPARTS</a:t>
            </a:r>
            <a:endParaRPr b="0" lang="en-US" sz="4400" spc="-1" strike="noStrike">
              <a:solidFill>
                <a:srgbClr val="000000"/>
              </a:solidFill>
              <a:latin typeface="Times New Roman"/>
            </a:endParaRPr>
          </a:p>
        </p:txBody>
      </p:sp>
      <p:grpSp>
        <p:nvGrpSpPr>
          <p:cNvPr id="92" name=""/>
          <p:cNvGrpSpPr/>
          <p:nvPr/>
        </p:nvGrpSpPr>
        <p:grpSpPr>
          <a:xfrm>
            <a:off x="685800" y="3352680"/>
            <a:ext cx="7848720" cy="1373760"/>
            <a:chOff x="685800" y="3352680"/>
            <a:chExt cx="7848720" cy="1373760"/>
          </a:xfrm>
        </p:grpSpPr>
        <p:sp>
          <p:nvSpPr>
            <p:cNvPr id="93" name=""/>
            <p:cNvSpPr/>
            <p:nvPr/>
          </p:nvSpPr>
          <p:spPr>
            <a:xfrm>
              <a:off x="1066680" y="3429000"/>
              <a:ext cx="2819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3352680"/>
              <a:ext cx="7848720" cy="13737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lace and time</a:t>
              </a:r>
              <a:r>
                <a:rPr b="0" lang="en-US" sz="2800" spc="-1" strike="noStrike">
                  <a:solidFill>
                    <a:srgbClr val="000000"/>
                  </a:solidFill>
                  <a:latin typeface="Times New Roman"/>
                </a:rPr>
                <a:t>: Where and when was the source produced? How might this have affected the content of the source?</a:t>
              </a:r>
              <a:endParaRPr b="0" lang="en-US" sz="2800" spc="-1" strike="noStrike">
                <a:solidFill>
                  <a:srgbClr val="000000"/>
                </a:solidFill>
                <a:latin typeface="Times New Roman"/>
              </a:endParaRPr>
            </a:p>
          </p:txBody>
        </p:sp>
      </p:grpSp>
      <p:grpSp>
        <p:nvGrpSpPr>
          <p:cNvPr id="95" name=""/>
          <p:cNvGrpSpPr/>
          <p:nvPr/>
        </p:nvGrpSpPr>
        <p:grpSpPr>
          <a:xfrm>
            <a:off x="685800" y="4724280"/>
            <a:ext cx="6553080" cy="1800360"/>
            <a:chOff x="685800" y="4724280"/>
            <a:chExt cx="6553080" cy="1800360"/>
          </a:xfrm>
        </p:grpSpPr>
        <p:sp>
          <p:nvSpPr>
            <p:cNvPr id="96" name=""/>
            <p:cNvSpPr/>
            <p:nvPr/>
          </p:nvSpPr>
          <p:spPr>
            <a:xfrm>
              <a:off x="1066680" y="4800600"/>
              <a:ext cx="312444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4724280"/>
              <a:ext cx="6553080" cy="18003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rior knowledge</a:t>
              </a:r>
              <a:r>
                <a:rPr b="0" lang="en-US" sz="2800" spc="-1" strike="noStrike">
                  <a:solidFill>
                    <a:srgbClr val="000000"/>
                  </a:solidFill>
                  <a:latin typeface="Times New Roman"/>
                </a:rPr>
                <a:t>: Beyond information about the author and the context of its creation, what do you know that would help you further understand the source?</a:t>
              </a:r>
              <a:endParaRPr b="0" lang="en-US" sz="2800" spc="-1" strike="noStrike">
                <a:solidFill>
                  <a:srgbClr val="000000"/>
                </a:solidFill>
                <a:latin typeface="Times New Roman"/>
              </a:endParaRPr>
            </a:p>
          </p:txBody>
        </p:sp>
      </p:grpSp>
      <p:grpSp>
        <p:nvGrpSpPr>
          <p:cNvPr id="98" name=""/>
          <p:cNvGrpSpPr/>
          <p:nvPr/>
        </p:nvGrpSpPr>
        <p:grpSpPr>
          <a:xfrm>
            <a:off x="685800" y="1981080"/>
            <a:ext cx="7772400" cy="1447920"/>
            <a:chOff x="685800" y="1981080"/>
            <a:chExt cx="7772400" cy="1447920"/>
          </a:xfrm>
        </p:grpSpPr>
        <p:sp>
          <p:nvSpPr>
            <p:cNvPr id="99" name=""/>
            <p:cNvSpPr/>
            <p:nvPr/>
          </p:nvSpPr>
          <p:spPr>
            <a:xfrm>
              <a:off x="1066680" y="2057400"/>
              <a:ext cx="1752840" cy="3808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5800" y="198108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uthor</a:t>
              </a:r>
              <a:r>
                <a:rPr b="0" lang="en-US" sz="2800" spc="-1" strike="noStrike">
                  <a:solidFill>
                    <a:srgbClr val="000000"/>
                  </a:solidFill>
                  <a:latin typeface="Times New Roman"/>
                </a:rPr>
                <a:t>: Who created the source? What do you know about the author? What is the author’s point of view?</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D2ECD5E4-86DD-4808-AF9A-85A12DA32816}" type="slidenum">
              <a:t>14</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2"/>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
          <p:cNvGrpSpPr/>
          <p:nvPr/>
        </p:nvGrpSpPr>
        <p:grpSpPr>
          <a:xfrm>
            <a:off x="685800" y="4799160"/>
            <a:ext cx="7467480" cy="1373760"/>
            <a:chOff x="685800" y="4799160"/>
            <a:chExt cx="7467480" cy="1373760"/>
          </a:xfrm>
        </p:grpSpPr>
        <p:sp>
          <p:nvSpPr>
            <p:cNvPr id="102" name=""/>
            <p:cNvSpPr/>
            <p:nvPr/>
          </p:nvSpPr>
          <p:spPr>
            <a:xfrm>
              <a:off x="1066680" y="4876920"/>
              <a:ext cx="2438640" cy="380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799160"/>
              <a:ext cx="7467480" cy="13737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Significance</a:t>
              </a:r>
              <a:r>
                <a:rPr b="0" lang="en-US" sz="2800" spc="-1" strike="noStrike">
                  <a:solidFill>
                    <a:srgbClr val="000000"/>
                  </a:solidFill>
                  <a:latin typeface="Times New Roman"/>
                </a:rPr>
                <a:t>: Why is this source important? Ask yourself, “So what?” in relation to the question asked.</a:t>
              </a:r>
              <a:endParaRPr b="0" lang="en-US" sz="2800" spc="-1" strike="noStrike">
                <a:solidFill>
                  <a:srgbClr val="000000"/>
                </a:solidFill>
                <a:latin typeface="Times New Roman"/>
              </a:endParaRPr>
            </a:p>
          </p:txBody>
        </p:sp>
      </p:grpSp>
      <p:sp>
        <p:nvSpPr>
          <p:cNvPr id="104" name="PlaceHolder 1"/>
          <p:cNvSpPr>
            <a:spLocks noGrp="1"/>
          </p:cNvSpPr>
          <p:nvPr>
            <p:ph type="title"/>
          </p:nvPr>
        </p:nvSpPr>
        <p:spPr>
          <a:xfrm>
            <a:off x="684000" y="609480"/>
            <a:ext cx="7769160" cy="13068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alyzing the Documents:</a:t>
            </a:r>
            <a:br>
              <a:rPr sz="4400"/>
            </a:br>
            <a:r>
              <a:rPr b="1" lang="en-US" sz="4400" spc="-1" strike="noStrike">
                <a:solidFill>
                  <a:srgbClr val="000000"/>
                </a:solidFill>
                <a:latin typeface="Times New Roman"/>
              </a:rPr>
              <a:t>APPARTS (continued)</a:t>
            </a:r>
            <a:endParaRPr b="0" lang="en-US" sz="4400" spc="-1" strike="noStrike">
              <a:solidFill>
                <a:srgbClr val="000000"/>
              </a:solidFill>
              <a:latin typeface="Times New Roman"/>
            </a:endParaRPr>
          </a:p>
        </p:txBody>
      </p:sp>
      <p:grpSp>
        <p:nvGrpSpPr>
          <p:cNvPr id="105" name=""/>
          <p:cNvGrpSpPr/>
          <p:nvPr/>
        </p:nvGrpSpPr>
        <p:grpSpPr>
          <a:xfrm>
            <a:off x="685800" y="3854520"/>
            <a:ext cx="8077320" cy="947160"/>
            <a:chOff x="685800" y="3854520"/>
            <a:chExt cx="8077320" cy="947160"/>
          </a:xfrm>
        </p:grpSpPr>
        <p:sp>
          <p:nvSpPr>
            <p:cNvPr id="106" name=""/>
            <p:cNvSpPr/>
            <p:nvPr/>
          </p:nvSpPr>
          <p:spPr>
            <a:xfrm>
              <a:off x="1066680" y="3886200"/>
              <a:ext cx="281952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3854520"/>
              <a:ext cx="807732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The main idea</a:t>
              </a:r>
              <a:r>
                <a:rPr b="0" lang="en-US" sz="2800" spc="-1" strike="noStrike">
                  <a:solidFill>
                    <a:srgbClr val="000000"/>
                  </a:solidFill>
                  <a:latin typeface="Times New Roman"/>
                </a:rPr>
                <a:t>: What point is the source trying to convey?</a:t>
              </a:r>
              <a:endParaRPr b="0" lang="en-US" sz="2800" spc="-1" strike="noStrike">
                <a:solidFill>
                  <a:srgbClr val="000000"/>
                </a:solidFill>
                <a:latin typeface="Times New Roman"/>
              </a:endParaRPr>
            </a:p>
          </p:txBody>
        </p:sp>
      </p:grpSp>
      <p:grpSp>
        <p:nvGrpSpPr>
          <p:cNvPr id="108" name=""/>
          <p:cNvGrpSpPr/>
          <p:nvPr/>
        </p:nvGrpSpPr>
        <p:grpSpPr>
          <a:xfrm>
            <a:off x="685800" y="2971800"/>
            <a:ext cx="8458200" cy="947160"/>
            <a:chOff x="685800" y="2971800"/>
            <a:chExt cx="8458200" cy="947160"/>
          </a:xfrm>
        </p:grpSpPr>
        <p:sp>
          <p:nvSpPr>
            <p:cNvPr id="109" name=""/>
            <p:cNvSpPr/>
            <p:nvPr/>
          </p:nvSpPr>
          <p:spPr>
            <a:xfrm>
              <a:off x="1066680" y="2971800"/>
              <a:ext cx="24386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 y="2971800"/>
              <a:ext cx="845820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Reason why</a:t>
              </a:r>
              <a:r>
                <a:rPr b="0" lang="en-US" sz="2800" spc="-1" strike="noStrike">
                  <a:solidFill>
                    <a:srgbClr val="000000"/>
                  </a:solidFill>
                  <a:latin typeface="Times New Roman"/>
                </a:rPr>
                <a:t>: Why was this source produced? How might this affect the reliability of the source?</a:t>
              </a:r>
              <a:endParaRPr b="0" lang="en-US" sz="2800" spc="-1" strike="noStrike">
                <a:solidFill>
                  <a:srgbClr val="000000"/>
                </a:solidFill>
                <a:latin typeface="Times New Roman"/>
              </a:endParaRPr>
            </a:p>
          </p:txBody>
        </p:sp>
      </p:grpSp>
      <p:grpSp>
        <p:nvGrpSpPr>
          <p:cNvPr id="111" name=""/>
          <p:cNvGrpSpPr/>
          <p:nvPr/>
        </p:nvGrpSpPr>
        <p:grpSpPr>
          <a:xfrm>
            <a:off x="685800" y="1949400"/>
            <a:ext cx="7924680" cy="947160"/>
            <a:chOff x="685800" y="1949400"/>
            <a:chExt cx="7924680" cy="947160"/>
          </a:xfrm>
        </p:grpSpPr>
        <p:sp>
          <p:nvSpPr>
            <p:cNvPr id="112" name=""/>
            <p:cNvSpPr/>
            <p:nvPr/>
          </p:nvSpPr>
          <p:spPr>
            <a:xfrm>
              <a:off x="1066680" y="2057400"/>
              <a:ext cx="2057400" cy="3808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1949400"/>
              <a:ext cx="7924680" cy="94716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udience</a:t>
              </a:r>
              <a:r>
                <a:rPr b="0" lang="en-US" sz="2800" spc="-1" strike="noStrike">
                  <a:solidFill>
                    <a:srgbClr val="000000"/>
                  </a:solidFill>
                  <a:latin typeface="Times New Roman"/>
                </a:rPr>
                <a:t>: For whom was the source created? How might this affect the reliability of the source?</a:t>
              </a:r>
              <a:endParaRPr b="0" lang="en-US" sz="2800" spc="-1" strike="noStrike">
                <a:solidFill>
                  <a:srgbClr val="000000"/>
                </a:solidFill>
                <a:latin typeface="Times New Roman"/>
              </a:endParaRPr>
            </a:p>
          </p:txBody>
        </p:sp>
      </p:grpSp>
      <p:sp>
        <p:nvSpPr>
          <p:cNvPr id="3" name="PlaceHolder 2"/>
          <p:cNvSpPr>
            <a:spLocks noGrp="1"/>
          </p:cNvSpPr>
          <p:nvPr>
            <p:ph type="sldNum" idx="3"/>
          </p:nvPr>
        </p:nvSpPr>
        <p:spPr/>
        <p:txBody>
          <a:bodyPr/>
          <a:p>
            <a:fld id="{82B451AC-A094-4C4C-A756-ABB51131D5F8}" type="slidenum">
              <a:t>15</a:t>
            </a:fld>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08"/>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irst Paragraph</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ight: analysis, perspective, point of view</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strong first impress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nalysis of the ques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der should know your position on the question unequivocally after the first paragrap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736DF6-B4DA-4D8B-9205-AFB6DA106CA1}" type="slidenum">
              <a:t>1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hesis Statement</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ositive assertion regarding an issue about which reasonable people may hold different opinion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s the question in one sentenc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notes and database to organize your argument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on’t</a:t>
            </a:r>
            <a:r>
              <a:rPr b="0" lang="en-US" sz="3200" spc="-1" strike="noStrike">
                <a:solidFill>
                  <a:srgbClr val="000000"/>
                </a:solidFill>
                <a:latin typeface="Times New Roman"/>
              </a:rPr>
              <a:t> discuss the documents in the order in which the DBQ presents th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969F4A-6DC6-44E2-BCA7-BB74C2F89B06}" type="slidenum">
              <a:t>17</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ody of the Essay</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factual support for your thesi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y focused on the ques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just write down everything you know about the topic</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ological sequence is more important than precise dat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FCE609-E94B-43EC-9509-5C93A406A466}" type="slidenum">
              <a:t>18</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800"/>
            <a:ext cx="7772400" cy="13716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ody of the Essay (continued)</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ck to the facts; don’t editorialize</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that each point you make supports your thesis</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outside information</a:t>
            </a:r>
            <a:endParaRPr b="0" lang="en-US" sz="32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a majority of the docu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5E7606-7F4F-4C4F-97A7-B293AD101575}" type="slidenum">
              <a:t>19</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BQ</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Monday, October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yped- 12 pt font, double spac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will turn it in to TurnItIn.Com (more info later) as well as turn in a hard copy to m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B1F45E-1F48-4B10-A7CA-A1871D784F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nclusion</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ime permits, write a conclusion that provides the following information: if my thesis is correct, then ________ is true.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 If the Navigation Acts were not economically oppressing the colonists, then we must look elsewhere for the basic causes of the American Revolu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B1375-870F-4DDF-94EB-7436371B85ED}" type="slidenum">
              <a:t>20</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609120"/>
            <a:ext cx="8915400" cy="7621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mpt Analysis Format: Summary</a:t>
            </a:r>
            <a:endParaRPr b="0" lang="en-US" sz="4400" spc="-1" strike="noStrike">
              <a:solidFill>
                <a:srgbClr val="000000"/>
              </a:solidFill>
              <a:latin typeface="Times New Roman"/>
            </a:endParaRPr>
          </a:p>
        </p:txBody>
      </p:sp>
      <p:sp>
        <p:nvSpPr>
          <p:cNvPr id="125"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t>
            </a:r>
            <a:r>
              <a:rPr b="1" lang="en-US" sz="2800" spc="-1" strike="noStrike">
                <a:solidFill>
                  <a:srgbClr val="000000"/>
                </a:solidFill>
                <a:latin typeface="Times New Roman"/>
              </a:rPr>
              <a:t>ESSENCE</a:t>
            </a:r>
            <a:r>
              <a:rPr b="0" lang="en-US" sz="2800" spc="-1" strike="noStrike">
                <a:solidFill>
                  <a:srgbClr val="000000"/>
                </a:solidFill>
                <a:latin typeface="Times New Roman"/>
              </a:rPr>
              <a:t> of the question?</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ey terms need to be </a:t>
            </a:r>
            <a:r>
              <a:rPr b="1" lang="en-US" sz="2800" spc="-1" strike="noStrike">
                <a:solidFill>
                  <a:srgbClr val="000000"/>
                </a:solidFill>
                <a:latin typeface="Times New Roman"/>
              </a:rPr>
              <a:t>DEFIN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 date </a:t>
            </a:r>
            <a:r>
              <a:rPr b="1" lang="en-US" sz="2800" spc="-1" strike="noStrike">
                <a:solidFill>
                  <a:srgbClr val="000000"/>
                </a:solidFill>
                <a:latin typeface="Times New Roman"/>
              </a:rPr>
              <a:t>PARAMETERS</a:t>
            </a:r>
            <a:r>
              <a:rPr b="0" lang="en-US" sz="2800" spc="-1" strike="noStrike">
                <a:solidFill>
                  <a:srgbClr val="000000"/>
                </a:solidFill>
                <a:latin typeface="Times New Roman"/>
              </a:rPr>
              <a:t> stated?</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 a </a:t>
            </a:r>
            <a:r>
              <a:rPr b="1" lang="en-US" sz="2800" spc="-1" strike="noStrike">
                <a:solidFill>
                  <a:srgbClr val="000000"/>
                </a:solidFill>
                <a:latin typeface="Times New Roman"/>
              </a:rPr>
              <a:t>DATABASE</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documents (SOAPS or APPARTS). Always take </a:t>
            </a:r>
            <a:r>
              <a:rPr b="1" lang="en-US" sz="2800" spc="-1" strike="noStrike">
                <a:solidFill>
                  <a:srgbClr val="000000"/>
                </a:solidFill>
                <a:latin typeface="Times New Roman"/>
              </a:rPr>
              <a:t>POINT OF VIEW </a:t>
            </a:r>
            <a:r>
              <a:rPr b="0" lang="en-US" sz="2800" spc="-1" strike="noStrike">
                <a:solidFill>
                  <a:srgbClr val="000000"/>
                </a:solidFill>
                <a:latin typeface="Times New Roman"/>
              </a:rPr>
              <a:t>into account.</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t>
            </a:r>
            <a:r>
              <a:rPr b="1" lang="en-US" sz="2800" spc="-1" strike="noStrike">
                <a:solidFill>
                  <a:srgbClr val="000000"/>
                </a:solidFill>
                <a:latin typeface="Times New Roman"/>
              </a:rPr>
              <a:t>INSIGHT</a:t>
            </a:r>
            <a:r>
              <a:rPr b="0" lang="en-US" sz="2800" spc="-1" strike="noStrike">
                <a:solidFill>
                  <a:srgbClr val="000000"/>
                </a:solidFill>
                <a:latin typeface="Times New Roman"/>
              </a:rPr>
              <a:t> into the complexity of the question</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clear </a:t>
            </a:r>
            <a:r>
              <a:rPr b="1" lang="en-US" sz="2800" spc="-1" strike="noStrike">
                <a:solidFill>
                  <a:srgbClr val="000000"/>
                </a:solidFill>
                <a:latin typeface="Times New Roman"/>
              </a:rPr>
              <a:t>THESIS</a:t>
            </a:r>
            <a:r>
              <a:rPr b="0" lang="en-US" sz="2800" spc="-1" strike="noStrike">
                <a:solidFill>
                  <a:srgbClr val="000000"/>
                </a:solidFill>
                <a:latin typeface="Times New Roman"/>
              </a:rPr>
              <a:t> that answers the question in one sentence</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bundant and appropriate factual </a:t>
            </a:r>
            <a:r>
              <a:rPr b="1" lang="en-US" sz="2800" spc="-1" strike="noStrike">
                <a:solidFill>
                  <a:srgbClr val="000000"/>
                </a:solidFill>
                <a:latin typeface="Times New Roman"/>
              </a:rPr>
              <a:t>SUPPORT </a:t>
            </a:r>
            <a:r>
              <a:rPr b="0" lang="en-US" sz="2800" spc="-1" strike="noStrike">
                <a:solidFill>
                  <a:srgbClr val="000000"/>
                </a:solidFill>
                <a:latin typeface="Times New Roman"/>
              </a:rPr>
              <a:t>for your thesis</a:t>
            </a:r>
            <a:endParaRPr b="0" lang="en-US" sz="2800" spc="-1" strike="noStrike">
              <a:solidFill>
                <a:srgbClr val="000000"/>
              </a:solidFill>
              <a:latin typeface="Times New Roman"/>
            </a:endParaRPr>
          </a:p>
          <a:p>
            <a:pPr marL="338040" indent="-3380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ime permits, write a </a:t>
            </a:r>
            <a:r>
              <a:rPr b="1" lang="en-US" sz="2800" spc="-1" strike="noStrike">
                <a:solidFill>
                  <a:srgbClr val="000000"/>
                </a:solidFill>
                <a:latin typeface="Times New Roman"/>
              </a:rPr>
              <a:t>CONCLU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31F316-84FC-46E5-81BB-BB7C276D58CC}" type="slidenum">
              <a:t>21</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BQ Facts &amp; Tip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the free-response section, the DBQ counts for 50% and the other two essays count for 25% 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60 minutes for the DBQ and 35 minutes each for the other essay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writing matters!</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532BF1-0811-475D-BAF9-57ED1AD4585A}" type="slidenum">
              <a:t>22</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DBQ?</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ssay question that asks you to take a position on an issue that has several possible answ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ight” or “correct”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ust craft a thesis based on your own knowledge and your interpretation of the evidence presente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96BF75-BD1A-40CF-833A-ED98A135DFB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9072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BQ Docum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ts, graphs, and ma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articles/editori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ch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r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ord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orial carto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8F1CE5-D836-4440-B9AD-4181E5F00A86}"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5">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solidFill>
            <a:srgbClr val="7d7d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mpt Analysis Forma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9E6FE4-D800-43B9-9D78-F832E9685B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Ques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question carefully, </a:t>
            </a:r>
            <a:br>
              <a:rPr sz="3200"/>
            </a:br>
            <a:r>
              <a:rPr b="0" lang="en-US" sz="3200" spc="-1" strike="noStrike">
                <a:solidFill>
                  <a:srgbClr val="000000"/>
                </a:solidFill>
                <a:latin typeface="Times New Roman"/>
              </a:rPr>
              <a:t>then think about the follow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essence of the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a yes/no, “to what extent,” or “compare and contrast” ques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it have more than one pa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bullets provid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a choice of respons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50D5C2-B497-42E6-BF84-D89FAE4E2CBE}" type="slidenum">
              <a:t>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8">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876312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DBQ: Multipart Question</a:t>
            </a:r>
            <a:endParaRPr b="0" lang="en-US" sz="4400" spc="-1" strike="noStrike">
              <a:solidFill>
                <a:srgbClr val="000000"/>
              </a:solidFill>
              <a:latin typeface="Times New Roman"/>
            </a:endParaRPr>
          </a:p>
        </p:txBody>
      </p:sp>
      <p:sp>
        <p:nvSpPr>
          <p:cNvPr id="60" name="PlaceHolder 2"/>
          <p:cNvSpPr>
            <a:spLocks noGrp="1"/>
          </p:cNvSpPr>
          <p:nvPr>
            <p:ph/>
          </p:nvPr>
        </p:nvSpPr>
        <p:spPr>
          <a:xfrm>
            <a:off x="380880" y="1752120"/>
            <a:ext cx="8763120" cy="4496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6B3FC5-9EC3-404B-8C59-F6B0B032A9E2}"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1752120"/>
            <a:ext cx="8763120" cy="44960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62" name="PlaceHolder 2"/>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 Terms</a:t>
            </a:r>
            <a:endParaRPr b="0" lang="en-US" sz="4400" spc="-1" strike="noStrike">
              <a:solidFill>
                <a:srgbClr val="000000"/>
              </a:solidFill>
              <a:latin typeface="Times New Roman"/>
            </a:endParaRPr>
          </a:p>
        </p:txBody>
      </p:sp>
      <p:sp>
        <p:nvSpPr>
          <p:cNvPr id="63" name=""/>
          <p:cNvSpPr/>
          <p:nvPr/>
        </p:nvSpPr>
        <p:spPr>
          <a:xfrm>
            <a:off x="39625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10280" y="35812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7200" y="41148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0880" y="266688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91120" y="411480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130A2-0499-4177-AF60-F30BD46E8500}"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3"/>
                                        </p:tgtEl>
                                        <p:attrNameLst>
                                          <p:attrName>style.visibility</p:attrName>
                                        </p:attrNameLst>
                                      </p:cBhvr>
                                      <p:to>
                                        <p:strVal val="visible"/>
                                      </p:to>
                                    </p:set>
                                    <p:animEffect filter="wipe(left)" transition="in">
                                      <p:cBhvr additive="repl">
                                        <p:cTn id="91" dur="500"/>
                                        <p:tgtEl>
                                          <p:spTgt spid="63"/>
                                        </p:tgtEl>
                                      </p:cBhvr>
                                    </p:animEffect>
                                  </p:childTnLst>
                                </p:cTn>
                              </p:par>
                            </p:childTnLst>
                          </p:cTn>
                        </p:par>
                        <p:par>
                          <p:cTn id="92"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66"/>
                                        </p:tgtEl>
                                        <p:attrNameLst>
                                          <p:attrName>style.visibility</p:attrName>
                                        </p:attrNameLst>
                                      </p:cBhvr>
                                      <p:to>
                                        <p:strVal val="visible"/>
                                      </p:to>
                                    </p:set>
                                    <p:animEffect filter="wipe(left)" transition="in">
                                      <p:cBhvr additive="repl">
                                        <p:cTn id="95" dur="500"/>
                                        <p:tgtEl>
                                          <p:spTgt spid="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4"/>
                                        </p:tgtEl>
                                        <p:attrNameLst>
                                          <p:attrName>style.visibility</p:attrName>
                                        </p:attrNameLst>
                                      </p:cBhvr>
                                      <p:to>
                                        <p:strVal val="visible"/>
                                      </p:to>
                                    </p:set>
                                    <p:animEffect filter="wipe(left)" transition="in">
                                      <p:cBhvr additive="repl">
                                        <p:cTn id="100" dur="500"/>
                                        <p:tgtEl>
                                          <p:spTgt spid="64"/>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65"/>
                                        </p:tgtEl>
                                        <p:attrNameLst>
                                          <p:attrName>style.visibility</p:attrName>
                                        </p:attrNameLst>
                                      </p:cBhvr>
                                      <p:to>
                                        <p:strVal val="visible"/>
                                      </p:to>
                                    </p:set>
                                    <p:animEffect filter="wipe(left)" transition="in">
                                      <p:cBhvr additive="repl">
                                        <p:cTn id="104" dur="500"/>
                                        <p:tgtEl>
                                          <p:spTgt spid="6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67"/>
                                        </p:tgtEl>
                                        <p:attrNameLst>
                                          <p:attrName>style.visibility</p:attrName>
                                        </p:attrNameLst>
                                      </p:cBhvr>
                                      <p:to>
                                        <p:strVal val="visible"/>
                                      </p:to>
                                    </p:set>
                                    <p:animEffect filter="wipe(left)" transition="in">
                                      <p:cBhvr additive="repl">
                                        <p:cTn id="10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80880" y="1752480"/>
            <a:ext cx="8763120" cy="4496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the changing ideals of American womanhood between the American Revolution (1770s) and the outbreak of the Civil War.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actors fostered the emergence of “republican motherhood” and the “cult of domesticity”?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the extent to which these ideals influenced the lives of women during this period. </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your answer be sure to consider issues of race and class.</a:t>
            </a:r>
            <a:endParaRPr b="0" lang="en-US" sz="32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solidFill>
            <a:srgbClr val="468e9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e Parameters</a:t>
            </a:r>
            <a:endParaRPr b="0" lang="en-US" sz="4400" spc="-1" strike="noStrike">
              <a:solidFill>
                <a:srgbClr val="000000"/>
              </a:solidFill>
              <a:latin typeface="Times New Roman"/>
            </a:endParaRPr>
          </a:p>
        </p:txBody>
      </p:sp>
      <p:sp>
        <p:nvSpPr>
          <p:cNvPr id="70" name=""/>
          <p:cNvSpPr/>
          <p:nvPr/>
        </p:nvSpPr>
        <p:spPr>
          <a:xfrm>
            <a:off x="2514600" y="2666880"/>
            <a:ext cx="563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7200" y="312408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7D86A3-FDEE-465A-A56D-29FB287173B7}" type="slidenum">
              <a:t>9</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0"/>
                                        </p:tgtEl>
                                        <p:attrNameLst>
                                          <p:attrName>style.visibility</p:attrName>
                                        </p:attrNameLst>
                                      </p:cBhvr>
                                      <p:to>
                                        <p:strVal val="visible"/>
                                      </p:to>
                                    </p:set>
                                    <p:animEffect filter="wipe(left)" transition="in">
                                      <p:cBhvr additive="repl">
                                        <p:cTn id="116" dur="500"/>
                                        <p:tgtEl>
                                          <p:spTgt spid="70"/>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71"/>
                                        </p:tgtEl>
                                        <p:attrNameLst>
                                          <p:attrName>style.visibility</p:attrName>
                                        </p:attrNameLst>
                                      </p:cBhvr>
                                      <p:to>
                                        <p:strVal val="visible"/>
                                      </p:to>
                                    </p:set>
                                    <p:animEffect filter="wipe(left)" transition="in">
                                      <p:cBhvr additive="repl">
                                        <p:cTn id="12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2:38:11Z</dcterms:created>
  <dc:creator>Christina Trejo</dc:creator>
  <dc:description/>
  <dc:language>en-US</dc:language>
  <cp:lastModifiedBy>emily.johnson</cp:lastModifiedBy>
  <dcterms:modified xsi:type="dcterms:W3CDTF">2012-09-13T18:49:45Z</dcterms:modified>
  <cp:revision>272</cp:revision>
  <dc:subject/>
  <dc:title>PowerPoint Presentation</dc:title>
</cp:coreProperties>
</file>